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A7F-E51E-4A1A-98C8-BF901414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709-D3C0-4C10-BB56-6B51366D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3F7-C8CB-44D2-8A2C-38491DCC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A3B-4593-4CF2-9FE1-A09F09FA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905-16F8-4521-BBA2-921C8652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687-FA5B-4053-8AB2-BBE01536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544-60FB-4151-9D8A-53C8C4C7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FD4-7860-4FC3-AEE1-886EF5A3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BBC4-0D97-4D77-BE7F-29687FA4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A41-ABDF-4322-B753-5E3C0B06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C17-C4A2-46DE-B5F0-5998C5F2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A46-085A-4E77-87A8-B388FE41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C49C-E023-4101-80CB-1D709252858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14360" y="1347840"/>
            <a:ext cx="8242200" cy="218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 по математи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грамма «Школа – 2100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класс, 3 четвер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50720" y="-328680"/>
            <a:ext cx="8242560" cy="2144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5400" spc="-1" strike="noStrike">
                <a:solidFill>
                  <a:srgbClr val="ffc000"/>
                </a:solidFill>
                <a:latin typeface="Times New Roman"/>
              </a:rPr>
              <a:t>4.       Решение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Составляем выражение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и  находим его значение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1 + 4 = 5 (зв.)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450720" y="-328680"/>
            <a:ext cx="8242560" cy="2144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Times New Roman"/>
              </a:rPr>
              <a:t>5.      Ответ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5 звёздочек нарисовала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Настя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0720" y="-328680"/>
            <a:ext cx="8242560" cy="2144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ru-RU" sz="4100" spc="-1" strike="noStrike">
                <a:solidFill>
                  <a:srgbClr val="ffc000"/>
                </a:solidFill>
                <a:latin typeface="Times New Roman"/>
              </a:rPr>
              <a:t>Проверяем себя: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.   Услов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.    Вопрос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.    Сх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4.    Реш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5.    Ответ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14200" y="1000080"/>
            <a:ext cx="87156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пиши только ответы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 + 0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 + 5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9 – 4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 + 2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6  - 6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.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7 – 4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50720" y="-225360"/>
            <a:ext cx="8242560" cy="196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9600" spc="-1" strike="noStrike">
                <a:solidFill>
                  <a:srgbClr val="ffffff"/>
                </a:solidFill>
                <a:latin typeface="Times New Roman"/>
              </a:rPr>
              <a:t>4, 8, 5, 10,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9600" spc="-1" strike="noStrike">
                <a:solidFill>
                  <a:srgbClr val="ffffff"/>
                </a:solidFill>
                <a:latin typeface="Times New Roman"/>
              </a:rPr>
              <a:t>0, 3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444600" y="244440"/>
            <a:ext cx="8364600" cy="1182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 +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 + 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5 –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5 – 4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5-конечная звезда 3"/>
          <p:cNvSpPr/>
          <p:nvPr/>
        </p:nvSpPr>
        <p:spPr>
          <a:xfrm>
            <a:off x="428760" y="2286000"/>
            <a:ext cx="1357200" cy="1143000"/>
          </a:xfrm>
          <a:custGeom>
            <a:avLst/>
            <a:gdLst>
              <a:gd name="textAreaLeft" fmla="*/ 419400 w 1357200"/>
              <a:gd name="textAreaRight" fmla="*/ 937800 w 13572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357322" h="1143008">
                <a:moveTo>
                  <a:pt x="1" y="436589"/>
                </a:moveTo>
                <a:lnTo>
                  <a:pt x="518454" y="436592"/>
                </a:lnTo>
                <a:lnTo>
                  <a:pt x="678661" y="0"/>
                </a:lnTo>
                <a:lnTo>
                  <a:pt x="838868" y="436592"/>
                </a:lnTo>
                <a:lnTo>
                  <a:pt x="1357321" y="436589"/>
                </a:lnTo>
                <a:lnTo>
                  <a:pt x="937882" y="706414"/>
                </a:lnTo>
                <a:lnTo>
                  <a:pt x="1098097" y="1143004"/>
                </a:lnTo>
                <a:lnTo>
                  <a:pt x="678661" y="873174"/>
                </a:lnTo>
                <a:lnTo>
                  <a:pt x="259225" y="1143004"/>
                </a:lnTo>
                <a:lnTo>
                  <a:pt x="419440" y="70641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5-конечная звезда 4"/>
          <p:cNvSpPr/>
          <p:nvPr/>
        </p:nvSpPr>
        <p:spPr>
          <a:xfrm>
            <a:off x="3857760" y="2286000"/>
            <a:ext cx="1357200" cy="1143000"/>
          </a:xfrm>
          <a:custGeom>
            <a:avLst/>
            <a:gdLst>
              <a:gd name="textAreaLeft" fmla="*/ 419400 w 1357200"/>
              <a:gd name="textAreaRight" fmla="*/ 937800 w 13572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357322" h="1143008">
                <a:moveTo>
                  <a:pt x="1" y="436589"/>
                </a:moveTo>
                <a:lnTo>
                  <a:pt x="518454" y="436592"/>
                </a:lnTo>
                <a:lnTo>
                  <a:pt x="678661" y="0"/>
                </a:lnTo>
                <a:lnTo>
                  <a:pt x="838868" y="436592"/>
                </a:lnTo>
                <a:lnTo>
                  <a:pt x="1357321" y="436589"/>
                </a:lnTo>
                <a:lnTo>
                  <a:pt x="937882" y="706414"/>
                </a:lnTo>
                <a:lnTo>
                  <a:pt x="1098097" y="1143004"/>
                </a:lnTo>
                <a:lnTo>
                  <a:pt x="678661" y="873174"/>
                </a:lnTo>
                <a:lnTo>
                  <a:pt x="259225" y="1143004"/>
                </a:lnTo>
                <a:lnTo>
                  <a:pt x="419440" y="70641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5-конечная звезда 5"/>
          <p:cNvSpPr/>
          <p:nvPr/>
        </p:nvSpPr>
        <p:spPr>
          <a:xfrm>
            <a:off x="2143080" y="2286000"/>
            <a:ext cx="1357200" cy="1143000"/>
          </a:xfrm>
          <a:custGeom>
            <a:avLst/>
            <a:gdLst>
              <a:gd name="textAreaLeft" fmla="*/ 419400 w 1357200"/>
              <a:gd name="textAreaRight" fmla="*/ 937800 w 13572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357322" h="1143008">
                <a:moveTo>
                  <a:pt x="1" y="436589"/>
                </a:moveTo>
                <a:lnTo>
                  <a:pt x="518454" y="436592"/>
                </a:lnTo>
                <a:lnTo>
                  <a:pt x="678661" y="0"/>
                </a:lnTo>
                <a:lnTo>
                  <a:pt x="838868" y="436592"/>
                </a:lnTo>
                <a:lnTo>
                  <a:pt x="1357321" y="436589"/>
                </a:lnTo>
                <a:lnTo>
                  <a:pt x="937882" y="706414"/>
                </a:lnTo>
                <a:lnTo>
                  <a:pt x="1098097" y="1143004"/>
                </a:lnTo>
                <a:lnTo>
                  <a:pt x="678661" y="873174"/>
                </a:lnTo>
                <a:lnTo>
                  <a:pt x="259225" y="1143004"/>
                </a:lnTo>
                <a:lnTo>
                  <a:pt x="419440" y="70641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5-конечная звезда 6"/>
          <p:cNvSpPr/>
          <p:nvPr/>
        </p:nvSpPr>
        <p:spPr>
          <a:xfrm>
            <a:off x="5500800" y="2286000"/>
            <a:ext cx="1357200" cy="1143000"/>
          </a:xfrm>
          <a:custGeom>
            <a:avLst/>
            <a:gdLst>
              <a:gd name="textAreaLeft" fmla="*/ 419400 w 1357200"/>
              <a:gd name="textAreaRight" fmla="*/ 937800 w 13572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357322" h="1143008">
                <a:moveTo>
                  <a:pt x="1" y="436589"/>
                </a:moveTo>
                <a:lnTo>
                  <a:pt x="518454" y="436592"/>
                </a:lnTo>
                <a:lnTo>
                  <a:pt x="678661" y="0"/>
                </a:lnTo>
                <a:lnTo>
                  <a:pt x="838868" y="436592"/>
                </a:lnTo>
                <a:lnTo>
                  <a:pt x="1357321" y="436589"/>
                </a:lnTo>
                <a:lnTo>
                  <a:pt x="937882" y="706414"/>
                </a:lnTo>
                <a:lnTo>
                  <a:pt x="1098097" y="1143004"/>
                </a:lnTo>
                <a:lnTo>
                  <a:pt x="678661" y="873174"/>
                </a:lnTo>
                <a:lnTo>
                  <a:pt x="259225" y="1143004"/>
                </a:lnTo>
                <a:lnTo>
                  <a:pt x="419440" y="70641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5-конечная звезда 7"/>
          <p:cNvSpPr/>
          <p:nvPr/>
        </p:nvSpPr>
        <p:spPr>
          <a:xfrm>
            <a:off x="7215120" y="2286000"/>
            <a:ext cx="1357560" cy="1143000"/>
          </a:xfrm>
          <a:custGeom>
            <a:avLst/>
            <a:gdLst>
              <a:gd name="textAreaLeft" fmla="*/ 419400 w 1357560"/>
              <a:gd name="textAreaRight" fmla="*/ 938160 w 135756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357322" h="1143008">
                <a:moveTo>
                  <a:pt x="1" y="436589"/>
                </a:moveTo>
                <a:lnTo>
                  <a:pt x="518454" y="436592"/>
                </a:lnTo>
                <a:lnTo>
                  <a:pt x="678661" y="0"/>
                </a:lnTo>
                <a:lnTo>
                  <a:pt x="838868" y="436592"/>
                </a:lnTo>
                <a:lnTo>
                  <a:pt x="1357321" y="436589"/>
                </a:lnTo>
                <a:lnTo>
                  <a:pt x="937882" y="706414"/>
                </a:lnTo>
                <a:lnTo>
                  <a:pt x="1098097" y="1143004"/>
                </a:lnTo>
                <a:lnTo>
                  <a:pt x="678661" y="873174"/>
                </a:lnTo>
                <a:lnTo>
                  <a:pt x="259225" y="1143004"/>
                </a:lnTo>
                <a:lnTo>
                  <a:pt x="419440" y="70641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315280" cy="151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42920" y="1600200"/>
            <a:ext cx="87868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стя нарисовала 5 звёздоче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стя нарисовала 1 красную звёздочку и 4 жёлтых звёздоч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стя нарисовала 1 красную звёздочку и 4 жёлтых звёздочки. Сколько всего звёздочек нарисовала Наст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сколько больше жёлтых звёздочек, чем красных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5-конечная звезда 3"/>
          <p:cNvSpPr/>
          <p:nvPr/>
        </p:nvSpPr>
        <p:spPr>
          <a:xfrm>
            <a:off x="500040" y="5214960"/>
            <a:ext cx="1357200" cy="1143000"/>
          </a:xfrm>
          <a:custGeom>
            <a:avLst/>
            <a:gdLst>
              <a:gd name="textAreaLeft" fmla="*/ 419400 w 1357200"/>
              <a:gd name="textAreaRight" fmla="*/ 937800 w 13572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357322" h="1143008">
                <a:moveTo>
                  <a:pt x="1" y="436589"/>
                </a:moveTo>
                <a:lnTo>
                  <a:pt x="518454" y="436592"/>
                </a:lnTo>
                <a:lnTo>
                  <a:pt x="678661" y="0"/>
                </a:lnTo>
                <a:lnTo>
                  <a:pt x="838868" y="436592"/>
                </a:lnTo>
                <a:lnTo>
                  <a:pt x="1357321" y="436589"/>
                </a:lnTo>
                <a:lnTo>
                  <a:pt x="937882" y="706414"/>
                </a:lnTo>
                <a:lnTo>
                  <a:pt x="1098097" y="1143004"/>
                </a:lnTo>
                <a:lnTo>
                  <a:pt x="678661" y="873174"/>
                </a:lnTo>
                <a:lnTo>
                  <a:pt x="259225" y="1143004"/>
                </a:lnTo>
                <a:lnTo>
                  <a:pt x="419440" y="70641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5-конечная звезда 4"/>
          <p:cNvSpPr/>
          <p:nvPr/>
        </p:nvSpPr>
        <p:spPr>
          <a:xfrm>
            <a:off x="6715080" y="5214960"/>
            <a:ext cx="1357200" cy="1143000"/>
          </a:xfrm>
          <a:custGeom>
            <a:avLst/>
            <a:gdLst>
              <a:gd name="textAreaLeft" fmla="*/ 419400 w 1357200"/>
              <a:gd name="textAreaRight" fmla="*/ 937800 w 13572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357322" h="1143008">
                <a:moveTo>
                  <a:pt x="1" y="436589"/>
                </a:moveTo>
                <a:lnTo>
                  <a:pt x="518454" y="436592"/>
                </a:lnTo>
                <a:lnTo>
                  <a:pt x="678661" y="0"/>
                </a:lnTo>
                <a:lnTo>
                  <a:pt x="838868" y="436592"/>
                </a:lnTo>
                <a:lnTo>
                  <a:pt x="1357321" y="436589"/>
                </a:lnTo>
                <a:lnTo>
                  <a:pt x="937882" y="706414"/>
                </a:lnTo>
                <a:lnTo>
                  <a:pt x="1098097" y="1143004"/>
                </a:lnTo>
                <a:lnTo>
                  <a:pt x="678661" y="873174"/>
                </a:lnTo>
                <a:lnTo>
                  <a:pt x="259225" y="1143004"/>
                </a:lnTo>
                <a:lnTo>
                  <a:pt x="419440" y="70641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5-конечная звезда 5"/>
          <p:cNvSpPr/>
          <p:nvPr/>
        </p:nvSpPr>
        <p:spPr>
          <a:xfrm>
            <a:off x="5214960" y="5214960"/>
            <a:ext cx="1357200" cy="1143000"/>
          </a:xfrm>
          <a:custGeom>
            <a:avLst/>
            <a:gdLst>
              <a:gd name="textAreaLeft" fmla="*/ 419400 w 1357200"/>
              <a:gd name="textAreaRight" fmla="*/ 937800 w 13572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357322" h="1143008">
                <a:moveTo>
                  <a:pt x="1" y="436589"/>
                </a:moveTo>
                <a:lnTo>
                  <a:pt x="518454" y="436592"/>
                </a:lnTo>
                <a:lnTo>
                  <a:pt x="678661" y="0"/>
                </a:lnTo>
                <a:lnTo>
                  <a:pt x="838868" y="436592"/>
                </a:lnTo>
                <a:lnTo>
                  <a:pt x="1357321" y="436589"/>
                </a:lnTo>
                <a:lnTo>
                  <a:pt x="937882" y="706414"/>
                </a:lnTo>
                <a:lnTo>
                  <a:pt x="1098097" y="1143004"/>
                </a:lnTo>
                <a:lnTo>
                  <a:pt x="678661" y="873174"/>
                </a:lnTo>
                <a:lnTo>
                  <a:pt x="259225" y="1143004"/>
                </a:lnTo>
                <a:lnTo>
                  <a:pt x="419440" y="70641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5-конечная звезда 6"/>
          <p:cNvSpPr/>
          <p:nvPr/>
        </p:nvSpPr>
        <p:spPr>
          <a:xfrm>
            <a:off x="3714840" y="5214960"/>
            <a:ext cx="1357200" cy="1143000"/>
          </a:xfrm>
          <a:custGeom>
            <a:avLst/>
            <a:gdLst>
              <a:gd name="textAreaLeft" fmla="*/ 419400 w 1357200"/>
              <a:gd name="textAreaRight" fmla="*/ 937800 w 13572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357322" h="1143008">
                <a:moveTo>
                  <a:pt x="1" y="436589"/>
                </a:moveTo>
                <a:lnTo>
                  <a:pt x="518454" y="436592"/>
                </a:lnTo>
                <a:lnTo>
                  <a:pt x="678661" y="0"/>
                </a:lnTo>
                <a:lnTo>
                  <a:pt x="838868" y="436592"/>
                </a:lnTo>
                <a:lnTo>
                  <a:pt x="1357321" y="436589"/>
                </a:lnTo>
                <a:lnTo>
                  <a:pt x="937882" y="706414"/>
                </a:lnTo>
                <a:lnTo>
                  <a:pt x="1098097" y="1143004"/>
                </a:lnTo>
                <a:lnTo>
                  <a:pt x="678661" y="873174"/>
                </a:lnTo>
                <a:lnTo>
                  <a:pt x="259225" y="1143004"/>
                </a:lnTo>
                <a:lnTo>
                  <a:pt x="419440" y="70641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5-конечная звезда 7"/>
          <p:cNvSpPr/>
          <p:nvPr/>
        </p:nvSpPr>
        <p:spPr>
          <a:xfrm>
            <a:off x="2143080" y="5214960"/>
            <a:ext cx="1357200" cy="1143000"/>
          </a:xfrm>
          <a:custGeom>
            <a:avLst/>
            <a:gdLst>
              <a:gd name="textAreaLeft" fmla="*/ 419400 w 1357200"/>
              <a:gd name="textAreaRight" fmla="*/ 937800 w 13572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357322" h="1143008">
                <a:moveTo>
                  <a:pt x="1" y="436589"/>
                </a:moveTo>
                <a:lnTo>
                  <a:pt x="518454" y="436592"/>
                </a:lnTo>
                <a:lnTo>
                  <a:pt x="678661" y="0"/>
                </a:lnTo>
                <a:lnTo>
                  <a:pt x="838868" y="436592"/>
                </a:lnTo>
                <a:lnTo>
                  <a:pt x="1357321" y="436589"/>
                </a:lnTo>
                <a:lnTo>
                  <a:pt x="937882" y="706414"/>
                </a:lnTo>
                <a:lnTo>
                  <a:pt x="1098097" y="1143004"/>
                </a:lnTo>
                <a:lnTo>
                  <a:pt x="678661" y="873174"/>
                </a:lnTo>
                <a:lnTo>
                  <a:pt x="259225" y="1143004"/>
                </a:lnTo>
                <a:lnTo>
                  <a:pt x="419440" y="70641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Рисунок 10" descr=""/>
          <p:cNvPicPr/>
          <p:nvPr/>
        </p:nvPicPr>
        <p:blipFill>
          <a:blip r:embed="rId2"/>
          <a:stretch/>
        </p:blipFill>
        <p:spPr>
          <a:xfrm>
            <a:off x="7858080" y="1285920"/>
            <a:ext cx="1106640" cy="1714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450720" y="-328680"/>
            <a:ext cx="8242560" cy="2144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57120" y="1428480"/>
            <a:ext cx="878688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стя нарисовала 1 красную звёздочку и 4 жёлтых звёздочк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колько всего звёздочек нарисовал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стя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5-конечная звезда 3"/>
          <p:cNvSpPr/>
          <p:nvPr/>
        </p:nvSpPr>
        <p:spPr>
          <a:xfrm>
            <a:off x="3929040" y="428616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5-конечная звезда 5"/>
          <p:cNvSpPr/>
          <p:nvPr/>
        </p:nvSpPr>
        <p:spPr>
          <a:xfrm>
            <a:off x="714240" y="428616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5-конечная звезда 6"/>
          <p:cNvSpPr/>
          <p:nvPr/>
        </p:nvSpPr>
        <p:spPr>
          <a:xfrm>
            <a:off x="2214720" y="428616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5-конечная звезда 10"/>
          <p:cNvSpPr/>
          <p:nvPr/>
        </p:nvSpPr>
        <p:spPr>
          <a:xfrm>
            <a:off x="5643720" y="428616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5-конечная звезда 11"/>
          <p:cNvSpPr/>
          <p:nvPr/>
        </p:nvSpPr>
        <p:spPr>
          <a:xfrm>
            <a:off x="7286760" y="43578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0720" y="-328680"/>
            <a:ext cx="8242560" cy="2144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1599840"/>
            <a:ext cx="8543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25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c000"/>
                </a:solidFill>
                <a:latin typeface="Times New Roman"/>
              </a:rPr>
              <a:t>     </a:t>
            </a:r>
            <a:r>
              <a:rPr b="1" lang="ru-RU" sz="5000" spc="-1" strike="noStrike">
                <a:solidFill>
                  <a:srgbClr val="ffc000"/>
                </a:solidFill>
                <a:latin typeface="Times New Roman"/>
              </a:rPr>
              <a:t>Условие задачи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300" spc="-1" strike="noStrike">
                <a:solidFill>
                  <a:srgbClr val="ffffff"/>
                </a:solidFill>
                <a:latin typeface="Times New Roman"/>
              </a:rPr>
              <a:t>Настя нарисовала  1 красную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вёздочк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 4 жёлтых звёздочк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25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450720" y="-328680"/>
            <a:ext cx="8242560" cy="2144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1599840"/>
            <a:ext cx="8400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2.     </a:t>
            </a:r>
            <a:r>
              <a:rPr b="1" lang="ru-RU" sz="6600" spc="-1" strike="noStrike">
                <a:solidFill>
                  <a:srgbClr val="ffc000"/>
                </a:solidFill>
                <a:latin typeface="Times New Roman"/>
              </a:rPr>
              <a:t>Вопрос.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Сколько всего звёздоче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нарисовала Настя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450720" y="-328680"/>
            <a:ext cx="8242560" cy="2144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ru-RU" sz="7800" spc="-1" strike="noStrike">
                <a:solidFill>
                  <a:srgbClr val="ffc000"/>
                </a:solidFill>
                <a:latin typeface="Times New Roman"/>
              </a:rPr>
              <a:t>3.    Схема.</a:t>
            </a:r>
            <a:endParaRPr b="0" lang="en-US" sz="7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?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1         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Прямая соединительная линия 4"/>
          <p:cNvSpPr/>
          <p:nvPr/>
        </p:nvSpPr>
        <p:spPr>
          <a:xfrm>
            <a:off x="2357280" y="4572000"/>
            <a:ext cx="3286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ая соединительная линия 6"/>
          <p:cNvSpPr/>
          <p:nvPr/>
        </p:nvSpPr>
        <p:spPr>
          <a:xfrm>
            <a:off x="3429000" y="4500720"/>
            <a:ext cx="1440" cy="21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олилиния 15"/>
          <p:cNvSpPr/>
          <p:nvPr/>
        </p:nvSpPr>
        <p:spPr>
          <a:xfrm>
            <a:off x="1785960" y="4286160"/>
            <a:ext cx="4719600" cy="347760"/>
          </a:xfrm>
          <a:custGeom>
            <a:avLst/>
            <a:gdLst/>
            <a:ahLst/>
            <a:rect l="l" t="t" r="r" b="b"/>
            <a:pathLst>
              <a:path w="4720046" h="346892">
                <a:moveTo>
                  <a:pt x="596537" y="307703"/>
                </a:moveTo>
                <a:cubicBezTo>
                  <a:pt x="298268" y="212634"/>
                  <a:pt x="0" y="117566"/>
                  <a:pt x="596537" y="72572"/>
                </a:cubicBezTo>
                <a:cubicBezTo>
                  <a:pt x="1193074" y="27578"/>
                  <a:pt x="3631474" y="0"/>
                  <a:pt x="4175760" y="37737"/>
                </a:cubicBezTo>
                <a:cubicBezTo>
                  <a:pt x="4720046" y="75474"/>
                  <a:pt x="3921760" y="251098"/>
                  <a:pt x="3862251" y="298995"/>
                </a:cubicBezTo>
                <a:cubicBezTo>
                  <a:pt x="3802742" y="346892"/>
                  <a:pt x="3834674" y="346891"/>
                  <a:pt x="3818708" y="325120"/>
                </a:cubicBezTo>
                <a:cubicBezTo>
                  <a:pt x="3802742" y="303349"/>
                  <a:pt x="3766457" y="168366"/>
                  <a:pt x="3766457" y="16836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01T18:59:08Z</dcterms:modified>
  <cp:revision>201</cp:revision>
  <dc:subject/>
  <dc:title>Слайд 1</dc:title>
</cp:coreProperties>
</file>